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32F6-56A1-4DCE-A9A3-103375218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D614-F44D-49A7-B4AF-A66770B5B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467F-8B52-48F0-8CA4-5CF9290BD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F7EF-87BB-4409-9471-3C482804A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2C83-DCE8-4E66-9D73-D569FEC51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C0B2-71BD-4463-8625-69558E740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CBCC-1EBC-4B38-8769-C4D5543CB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CCAD-AB03-4A88-AD2E-5DE7446DA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FFFA-3EB5-4DB2-A390-78474363F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3510-6711-4CB0-9CFF-84216A2D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B8B9-20EB-4964-B6E2-52E7C24B2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1ABB-B0C9-48EB-964C-BA47F2D43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99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7E14F-A090-44A1-B440-919884C99B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hyperlink" Target="http://www.freeplaymusic.com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eb.mit.edu/invent/iow/pemberton.html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99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62120" y="762120"/>
            <a:ext cx="5333760" cy="41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6b0812"/>
                  </a:solidFill>
                  <a:miter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Coca-Cola</a:t>
            </a:r>
            <a:endParaRPr b="0" i="1" lang="en-US" sz="1800" spc="1" strike="noStrike">
              <a:ln w="12600">
                <a:solidFill>
                  <a:srgbClr val="6b0812"/>
                </a:solidFill>
                <a:miter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 flipV="1" rot="10742400">
            <a:off x="6656400" y="4561920"/>
            <a:ext cx="162864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Andrew O’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2-21-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Period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Computer#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705720" y="304920"/>
            <a:ext cx="2209680" cy="1560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934320" y="2438280"/>
            <a:ext cx="2209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p 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04920" y="5334120"/>
            <a:ext cx="5943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play Music,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Blues Dreams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Feb. 27, 2012,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freeplaymusic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" dur="2000" fill="hold"/>
                                        <p:tgtEl>
                                          <p:spTgt spid="4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6000"/>
                            </p:stCondLst>
                            <p:childTnLst>
                              <p:par>
                                <p:cTn id="18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ccff"/>
                                      </p:to>
                                    </p:animClr>
                                    <p:animClr clrSpc="rgb">
                                      <p:cBhvr>
                                        <p:cTn id="2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ccff"/>
                                      </p:to>
                                    </p:animClr>
                                    <p:set>
                                      <p:cBhvr>
                                        <p:cTn id="2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8000"/>
                            </p:stCondLst>
                            <p:childTnLst>
                              <p:par>
                                <p:cTn id="26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2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3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2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99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Pemberton"/>
          <p:cNvPicPr/>
          <p:nvPr/>
        </p:nvPicPr>
        <p:blipFill>
          <a:blip r:embed="rId1"/>
          <a:stretch/>
        </p:blipFill>
        <p:spPr>
          <a:xfrm>
            <a:off x="0" y="0"/>
            <a:ext cx="9144000" cy="28195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143000" y="3886200"/>
            <a:ext cx="5562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8359800">
            <a:off x="3657600" y="5181120"/>
            <a:ext cx="990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3352680"/>
            <a:ext cx="5790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3276720"/>
            <a:ext cx="60958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elson MIT Program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ca-Cola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eb 23,2012,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eb.mit.edu/invent/iow/pemberton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62320" y="5486400"/>
            <a:ext cx="624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ca-Cola was a drink that was made for the public in 188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99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John Pembert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an named John Pemberton came up with the idea of the drink after having a soda based drink for lun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885 Pemberton mixed a series of syrups to make the drink known as Coca-Co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hough John didn’t come up with the name his book keeper d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was Born in 183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got a medical degree at the age of 1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99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ion: Coca-Co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dea of Coca-Cola was thought of in 186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as named after a soda based drin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s made from cocaine and kola n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ook keeper came up with the name Coca-C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rink was made in 188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 rot="7024800">
            <a:off x="7047720" y="4305960"/>
            <a:ext cx="688680" cy="18302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 rot="8875800">
            <a:off x="8076600" y="579096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" dur="2000" fill="hold"/>
                                        <p:tgtEl>
                                          <p:spTgt spid="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7T14:41:17Z</dcterms:created>
  <dc:creator>install</dc:creator>
  <dc:description/>
  <dc:language>en-US</dc:language>
  <cp:lastModifiedBy>install</cp:lastModifiedBy>
  <dcterms:modified xsi:type="dcterms:W3CDTF">2012-03-09T15:00:40Z</dcterms:modified>
  <cp:revision>8</cp:revision>
  <dc:subject/>
  <dc:title>Slide 1</dc:title>
</cp:coreProperties>
</file>